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D11BE-FCFA-4DF5-B65B-A3A5119E64A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A779C-8F3C-46D1-9A3A-ED7A789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7E3D3-521F-483F-AA7F-5A498DAFE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3C5C75-DC38-418A-830B-CA17A628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03AACC-2621-4E48-9601-87F79A5E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28B0DC7-7E37-478F-A9BB-BA3C52A2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C04C3-DEBD-4B32-A1D0-38781239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693D9-9503-4F43-B282-28D049F9D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5C3B3A-DBD6-4569-8AC2-76BD3875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4C1686-ED90-455E-AD80-552814D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5E53853-C641-4CFC-854D-7556C4E39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32D3E-3900-417B-AFF3-042619957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ECBE7-DFF9-4968-8B1E-573D1BE2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669B8-238F-45E8-9BF4-2E674885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32480-CD82-4699-928F-BFAC7A38F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B3403-EC0B-4D2A-8690-382EF046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53F403-1913-4503-8563-3BBE87677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8C672-8C90-4BF4-A280-B4123F244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4AAF4-296F-47C4-92CB-49A63ECBD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7C8964-8C3B-40C7-9F4A-66294CB2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A748F-9F28-4234-BCD2-D6A49E4A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2FCDE-E476-4C0A-AC98-49587D94C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2B5BD-7D68-430F-8A79-AA5FFA9A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6A83-E762-4F01-87CC-3B44DA2160B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115945-F94B-4C08-9CAD-B1E136139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C87095-5522-4BEF-A126-336314C454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57F3D2-02F6-478C-8856-DE8551903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1E3C0-037B-4EC4-B1E3-F17C4EB2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01DA16-EF10-432F-AD14-FFE7CF050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C51912-CE6D-4102-B938-15970A4B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C2010-24EF-48D3-9446-DDD7ECE5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E67A576-B5BA-4FC5-8F86-F79C9C6FA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80B2F5-1EC7-415E-AB87-58E3B28C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DEB9C1-086C-46E8-B361-39F1AA8D2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F73509-AE4A-4086-A81F-04A3055FC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08393C4-B2E9-4FB7-8D1E-4E79C6979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6B53BA6-2A1C-4109-AACB-0A31F648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B7E8019-FC1D-4E8D-80A7-467A097C7C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A5600A-CDE3-4523-85F9-418CD1B6F7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F7206D-92AB-4B70-9F77-2C93FD31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D9F5C19-8D14-4B98-8F8D-C30E3599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CA94B-F63B-456D-B9EB-A1774729F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BEEFC7-69AE-4D29-A765-EB49B284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9E0A91-3FDF-49DE-AF26-843D1DA8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754CB-D1AA-4E80-A236-32482FD2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6E730D-873F-4954-A327-A055F93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64818F-4A81-4217-B673-82402223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310968-A538-4107-BD03-88E5370F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C6DBD5-CE88-408D-9D38-C054E1EA8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E4D00B-1C77-48D0-B81C-3D10E008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0E6EF0-C2E2-4F71-A051-983B1BC1A1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6B6202-29E6-4E18-9153-9753886C4E4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9D15CE-925F-480B-BC64-08A2E0EB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6E90B7-7E79-4AAF-8E1E-259A1CF6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595CB-DA2D-47FA-BEF1-832AFA36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33AC0-DAFF-4D15-8CFE-432470E5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C3FA8-9640-4391-819F-BC96996C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E22E0-2929-4D14-AEC2-73B661253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68AC26-F411-4390-9F38-24D6E538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D98C8-8BDA-46AD-8EA5-69A4FD3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2370C-D64F-4582-AF06-3CF0BA6C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98BFC-0042-4CDF-B49B-B29A93E05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C1F3E-0A67-4B9E-9C9D-E41352AC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C7A051-4C1B-44C2-A01F-DB3A1DA700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58585C-B392-44F3-8A4B-F85C54D9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D50EE-DD17-470A-93C4-EB216A84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BF9C68-896A-4C1E-B45C-D10330804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41DBC-5E30-48A4-BE4F-75DA32AF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BA087-23E1-4AB7-A08E-92C95ED6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3F6F1D-79FC-406B-BF9A-E9B1810B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25BDD-86E0-42B2-BAA6-0C086E48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02CE5A-44BB-434F-BA68-E318B200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2A85D9-3A0B-486A-B616-2ED544C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7A7A7E-3191-48B0-B3DA-5A326CFA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9C569B-C9FB-44A0-9ACA-827012ECD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C7C202-B008-43E9-A0F3-898D821D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42366A-DC95-4651-8E59-9552AD12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389CE-8955-46FC-A3CC-07636ABBC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78B5-B39B-4B94-B6A6-050238B88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7F5722-FDA9-4008-8D06-5CBD43504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39D17-8829-4C1B-8842-2D4103E4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281EDD-1AC6-479E-B1DD-A629399DB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0C8BE-29B0-43BC-AF1B-3158E49E5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F8D83-713B-4E36-A171-D255D2D6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D05C1-0BEB-406C-B074-8A317704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4B6CE-8839-4999-93F4-AA83F13F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65B33-ACFE-4727-A0A7-FB3E092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77C29C-A85A-4444-8C65-9B51FC8FA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75588-51A2-438E-9EF1-BE9A7E71E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8F80A-C7CD-419A-864F-2A8A2AD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6943C-8907-4F2C-ACBA-3DFED517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192EEE-4176-434E-8459-9631A743B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81327F-4082-4E03-A6E0-9B2D8492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D7C84D-A590-43C9-BCD5-6BBDE194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BD8F2-258B-4BE4-AE34-769AB36D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8D6FC4-517F-402E-8F6E-68CD892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9F1DEC-5593-48B0-A1E6-5CD78ECC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59684-3B8A-45A8-A33E-CA7F0021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AFEF3-1597-4FCC-8422-2FC2593E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FEDF9-E28A-4C6A-BB81-5B83D7FFA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C8229-03B6-4BBF-A895-09836914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6E70B0-84DA-4541-BF60-5BB58098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BF1262-CBF9-43AE-9972-75BE9F5B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01EE2-37BC-40A8-A2F4-1DE9D5FE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32BB2-E664-48F4-8E79-467C4C1A4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0967BC-457D-4D19-ABF2-645F29DB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BAA07-5EA0-4C7A-9CEC-63457CAF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5A1B4-7C06-49BC-832E-ADFC24BFE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4307A3-1115-43FA-82E9-770DDA9E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612B19-52E0-48B2-B6A3-220A15E2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BB79E9-ADFD-48DF-A869-0E20F6D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79526-E111-4456-9534-FA1CE616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2142-C4B9-4E53-99A7-56938701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5D2B5-8C25-414D-8460-C7A73544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950F57-44F3-46C8-8C2B-6F0DDE96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7A02BE-CDE6-4A2F-A591-C9121049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8EE60-084C-4E0D-B8CA-049627E76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8F84D7-68DF-4048-8DE8-BD3A8CEA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78A94E-BEE7-47A0-84FE-A2A279B69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7983B-F14D-4B60-A9E6-5F50D460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5203B5-D807-49C9-B872-4DAEEFC2B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C835CC-377B-48B1-A6A3-13A5C599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88041E-B2BB-4CC0-AB6B-114A93236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24116-942F-4F1A-A2F7-6F6183DA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679B37-1F0A-4352-8A23-65A7B6EF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E61C01-32E4-41AE-A0DF-9BA185A6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E5A4D0-16A3-4223-B743-0CA7A2BA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757ED-5234-4346-B01F-264C3D5A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D653E9-193C-4584-A6C4-5D452ADB2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F8E535-2B6C-4533-8737-2B20AAB1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C0DDDA-44AA-4DBB-A296-6BB8119AA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7A2D7D-5D80-4D81-825B-5E3A5A1D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2F2093-0978-4B48-8A4C-23593D07C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E20507-378C-452F-A4EB-E452CD5C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F83D72-5DD6-4011-940D-406EF3E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8F51BB-3973-402E-BEB1-A7EA54F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82842F-33F5-4AB2-9326-C18A9480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BCAA1-4310-400E-9D8E-EBCEC52E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4348B5-C3D1-417D-8407-4A2EA600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D640A9-10B5-44EB-AC8A-0BAD7C9E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47AAF-ED9C-4B5E-A0BA-D73AC951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D60687-0D02-4551-AD37-33693599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112BB6-B43E-4FB3-9AD9-BB5568EE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D2210-D953-4FFC-8604-36593DDB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E21C2E-38FF-415F-A6DC-495C90FE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46922-E18B-44BD-AA60-2703BF02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0A21F0-6ECD-494D-A371-D090813F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A9227B-E300-4DAF-8E5F-F0EEB34F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176DF6-21E2-4000-BDAA-4FE6BD430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230C67-7B95-4ACC-84CA-051E8C7A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658B9C-6F6C-452D-8919-82177D0D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001AB3-8640-4E7B-B76C-4D0D094D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4955FF-DA1B-4212-86C4-BD46C0A6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7F942-9665-43BB-B6CD-843DF6A4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173417-9652-42EF-91D5-B4A66A4AF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68D528-5617-4AA5-8D32-39F6C353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F72D1-E8C9-474D-9F80-CC961BEB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6DB3A3-7F26-44DE-A708-7005AD327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5B1457-A3BD-435C-9C2C-F37573174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246D75-F4AF-483C-80A0-F35DE2CF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27E642-4AD7-4CB5-B866-5A76F0FB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1F3C31-FC27-4873-9BA1-DEDAF0D5B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62884F-9C22-46D8-8C17-0858E672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419F1-0477-46A1-A76A-629702099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5A975A-BEF6-463C-9C8C-62AF32F5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FDC8D0-8C41-4A83-BFAB-05D162B5E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5C9676-AA4C-4D6D-A2BD-5BD4DF68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3E8D9D-B3DE-4517-A3A6-973BF5A7D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55B38B-E907-42E2-A31A-A30D6F59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CD5D0-6E24-4DEA-9AFD-3FD8B483A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ADDF48-D339-4B36-A810-E841EAF9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DF79B1-E642-41C3-9858-B061B0E4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17C34B-9050-49FE-95BF-26119484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17FE5-2DDF-4AE9-8594-3F1CC6CE1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1C027-A91F-4235-BE70-AC220AB3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9135B6-467E-43C6-8966-8AC5CF17F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013589-4117-4C2B-A297-62A561CD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BDE804-0758-4A30-B92A-93DCF9FD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EE0CD3-A974-4A45-AFE6-CEE2A03B1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DD8F31-E543-4BCE-A4FA-B8B0CACA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15DB4D-D5FC-4E52-B78C-388A79F4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95347-7F0C-4CDC-B6A2-B139580E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AE10E6-416E-499A-814F-E34AA11E4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FAC1DF-E06C-4D91-8592-5D456308B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9073A9-7CAF-479D-9E50-FC2154F40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4E772A-E319-429C-82CB-2D9FD824B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D21E17-D80F-4C7C-9171-81203931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F9493-DD02-44A6-816C-4ACB7D3D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06D7D4-2AA1-4093-ADB0-268A9BC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620CD-EB7B-4759-9418-1474B09F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2480AE-B69C-4A5B-BC40-F5014832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0E38D-9FC1-46F0-B2EB-9A57B697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528669-5601-497A-892F-81307F75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65B0F5-95DB-4076-9D21-1439B6E6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ABD6A-3770-4E49-95C8-3797763C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8351FF-E519-4032-9D5F-3865D58DA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94514C-5127-4393-BAA4-D15544864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FAFB73-9BD5-4D49-AAB0-79010E8FF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BDC632-23C8-4E01-BBDF-508D5E36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237FB0-D4F4-4055-AF2D-585246C8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AFFFF-B8AC-42D0-8AC3-5463BB55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B4BFD4-A08A-4A76-8162-7873368B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D28A9E-9F07-418F-8546-AC787897E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9F2FC3-E2CE-4134-8E04-D2AEE91D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AC937B-6722-41C3-AC8B-BA4933CA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E89D4A-F5BA-4D24-821E-6162B5ED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129B0E-FB3C-451B-AE94-91858679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7F1CD7-F1FE-4E87-A375-44AF0ACA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C47B5C-4D3B-4EB6-B810-1917B2FCF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D936F0-3056-4C95-8CFA-C15A5ABE4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39541E-3875-4081-9840-7566AB2C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5DFEF-2C42-4457-91FD-B3936553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A39439-596C-466C-8B46-5079B67E8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FB749C-73A8-42A5-AEAF-D61516BF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7F136A-D0ED-4D59-885C-3F4BCEAB3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B395C8-CE3F-4B58-9C64-6B59B3FE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904D4-451D-4BAA-8D56-B63059102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AE09AB-FEE3-4AF6-B35E-F91BA056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584FD1-1349-426A-8F72-222B281A1D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1ED7B-6F1B-469B-B982-8130A1B72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97AF7-0F7B-4AE2-99D1-01396D64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2147D-7DD1-43C0-9A78-83C6B62C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75175-C939-4D2B-96B7-45AF3E8F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25DA-0736-4436-9605-1C4F9BF50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2C13-6A1D-41BE-A4F2-385471BB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03BB0-7264-4208-B6F4-E21F842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EB773-6AC6-4E0D-ACFC-9921FF659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A04DE-4C35-4895-8289-7BF7489E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DB7DE-EA52-4FDB-BDB7-4C0D00A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6992E-FC7A-403D-97F9-CE0E108E4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546AC-FA73-41CE-B060-3C05C6C9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3F542-A794-42D0-AAEB-A5AAC795A4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E28A89-985E-4BB8-9405-C1921F0823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8C41-EB98-45B3-9818-D0A6AED0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57C30F-F29A-40A6-AD9C-FF8B8657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6F201C-7D39-4F58-9067-B07F4869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59B2F5-20C2-4B34-862D-C7E688193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2246A-3957-4FB3-8E15-A662AC19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2ADF78-1475-4B25-9DCE-29418A6AA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9DA81A8-0E41-43EB-9EC8-D30982A3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61A067-1B15-4B2B-AE4E-A3A3FC3E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A79C0D-70D2-4659-9A81-EBCA07BE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8F2DDD-29BC-4990-A8BB-7D120165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A01E37-5672-4E8B-BEAE-38DDD9C1E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A4CC1-965C-4EF4-9739-372290910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B49C18-5294-4EB5-9E82-1D234715E0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D0FDD8-E80A-40ED-B953-C1035A5A3D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A25F1-485C-43A2-B5E9-93067655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49212BD-6AD7-409E-BE57-8C78E696A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A2A6A-B813-4919-A630-DF0C8029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83AB49-C640-462B-9A63-20D3C2636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E8C9F8-63F4-456F-84D8-12841898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CB279A6-CA06-4E46-A883-86845685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AA4AD-491B-4040-887C-82DEE66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585A478-9202-4F38-9491-35A4E6F3F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C6221-7FB4-4CFD-9BA1-9A022D1E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B096E0-2483-41E0-8A23-EFAF98EC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9BA66F-5628-4ED0-B90A-3B9DE516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B2A87B-B02C-4F7C-86DE-80E5FE0FC0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F2F7-09AF-4D69-A79F-1054E7DC9B1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9C4AF-28F6-4CC2-AA14-55DF86B91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E438C-BFEC-4FBC-A616-9656BFDEB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2379-8705-43A9-AED9-72A04913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75A2E-D60C-4BC7-B0D7-8A2E44B7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AD4B4-F33D-4762-8F27-EAEBB4BD7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BC980-CF54-4E7E-AE7C-7E26AFA3F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EFB7-4103-4F2F-B4AE-D801AC7D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C9883-6356-4F9C-A4A7-419DA416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9DDE14-4E2A-4EF3-8133-3EF31FC0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2158F-437A-482E-9E4C-177D62B4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75699-DD2C-4AFD-B2C6-24F1807F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5A5FE-A78A-4F61-BA65-95FA6CF8F8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91CB02-5520-48AB-9259-CBF20D8E50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70D54E-1CF5-44EB-8509-F218449E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39100A-1854-41AD-AF0F-A6A403DFA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2780FB-536B-4FE2-B769-52E3269A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DF3197-F149-4423-B288-7456DAE1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7C9F4-7C83-4471-824C-371A9F72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18EFDA-825F-424A-80ED-335041207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E72F67-9080-4E2E-9BDE-B28225F1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FDBC3-BDDA-4904-9282-60298144C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FF6A15-123E-444B-AF69-599538902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EAA0A3-B468-48A7-BAD9-06B651CC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8E8B7F-4E37-4B46-995D-7F3CDAC8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C33CBF-D963-45D5-8872-4D68E0FAD9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461BB3-02C1-4539-9F2B-AD685B9FB5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409FB1-ED3A-4446-9799-0C793350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6C1311-845A-4C20-9D1F-9638EE94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D1330-8E43-4398-8A36-90064EADFA6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60C3-B710-45CC-8D3D-E4FED0DFF0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112-9F61-4648-9C68-B95FE8F8D1D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4456A-62E3-4A78-A805-830C2EF07DF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20045-5E49-4308-8333-A73CD6814A1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3227E-7736-4556-81A7-4165D887E92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C4B9-FC92-4D00-A912-F0C9139B104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8B73-A052-4F17-BCBD-7F42BC913C2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AF500-B5C9-4EF6-ABF0-3953085534F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212D-4618-4FCA-8188-AD4D21F3991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077F-DE2F-4E25-9115-5F3CF28BAEF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3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18601-B47E-4C3A-B922-488FB70AE8C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97C87-9EE4-41A7-928A-20EB9462760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B2663-5102-4A6A-B1B2-55BF96869FA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19E7-2650-4BBD-BFC9-F5655FA1FF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7A13-54CD-4285-8809-214EEDF022B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D9859-4D69-4E59-B008-6EFD06D44B6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986F-15F6-40A6-810F-4A07730D049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ABBB-7F79-4460-9A36-E6666D03068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1C85-C2FB-4690-BBC8-5F5A87EE42F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3FC0-685B-4C21-8A4B-8CF2B84F54D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EB8A1-29E8-4AAF-AA84-1BE3ADFCD0A6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4DEB-609A-4A58-BAA3-F15B02FBD4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0025-9902-49C2-A182-FE88D89B0F3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一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1846440" y="2770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-436680" y="2727360"/>
            <a:ext cx="84441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29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</a:t>
            </a:r>
            <a:r>
              <a:rPr b="0" lang="en-US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5 </a:t>
            </a:r>
            <a:r>
              <a:rPr b="0" lang="zh-CN" sz="29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 内 的 减 法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4790880" cy="360"/>
            <a:chOff x="2284560" y="2448000"/>
            <a:chExt cx="479088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479088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4790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0280" y="18590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777960" y="1816200"/>
            <a:ext cx="845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3 </a:t>
            </a:r>
            <a:r>
              <a:rPr b="1" lang="zh-CN" sz="33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 </a:t>
            </a:r>
            <a:r>
              <a:rPr b="1" lang="en-US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1~5</a:t>
            </a:r>
            <a:r>
              <a:rPr b="1" lang="zh-CN" sz="33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认识和加减法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01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009" name="组合 4098"/>
          <p:cNvGrpSpPr/>
          <p:nvPr/>
        </p:nvGrpSpPr>
        <p:grpSpPr>
          <a:xfrm>
            <a:off x="395280" y="1773360"/>
            <a:ext cx="7912080" cy="3300120"/>
            <a:chOff x="395280" y="1773360"/>
            <a:chExt cx="7912080" cy="3300120"/>
          </a:xfrm>
        </p:grpSpPr>
        <p:pic>
          <p:nvPicPr>
            <p:cNvPr id="1010" name="内容占位符 4099" descr="小鸡群"/>
            <p:cNvPicPr/>
            <p:nvPr/>
          </p:nvPicPr>
          <p:blipFill>
            <a:blip r:embed="rId8"/>
            <a:stretch/>
          </p:blipFill>
          <p:spPr>
            <a:xfrm>
              <a:off x="395280" y="1773360"/>
              <a:ext cx="4038120" cy="33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1" name="内容占位符 4100" descr="68b1OOOPIC57[1]"/>
            <p:cNvPicPr/>
            <p:nvPr/>
          </p:nvPicPr>
          <p:blipFill>
            <a:blip r:embed="rId9"/>
            <a:stretch/>
          </p:blipFill>
          <p:spPr>
            <a:xfrm rot="900000">
              <a:off x="6814080" y="2341440"/>
              <a:ext cx="1311840" cy="157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2" name="内容占位符 4101" descr="68b1OOOPIC57[1]"/>
            <p:cNvPicPr/>
            <p:nvPr/>
          </p:nvPicPr>
          <p:blipFill>
            <a:blip r:embed="rId10"/>
            <a:stretch/>
          </p:blipFill>
          <p:spPr>
            <a:xfrm rot="21300000">
              <a:off x="5950440" y="1909800"/>
              <a:ext cx="1333080" cy="159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3" name="TextBox 5"/>
          <p:cNvSpPr/>
          <p:nvPr/>
        </p:nvSpPr>
        <p:spPr>
          <a:xfrm>
            <a:off x="826920" y="114480"/>
            <a:ext cx="2286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Calibri"/>
                <a:ea typeface="宋体"/>
              </a:rPr>
              <a:t>探究新知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4" name="组合 5121"/>
          <p:cNvGrpSpPr/>
          <p:nvPr/>
        </p:nvGrpSpPr>
        <p:grpSpPr>
          <a:xfrm>
            <a:off x="1332000" y="836640"/>
            <a:ext cx="6337800" cy="2643120"/>
            <a:chOff x="1332000" y="836640"/>
            <a:chExt cx="6337800" cy="2643120"/>
          </a:xfrm>
        </p:grpSpPr>
        <p:pic>
          <p:nvPicPr>
            <p:cNvPr id="1015" name="图片 5122" descr="小鸡群"/>
            <p:cNvPicPr/>
            <p:nvPr/>
          </p:nvPicPr>
          <p:blipFill>
            <a:blip r:embed="rId1"/>
            <a:stretch/>
          </p:blipFill>
          <p:spPr>
            <a:xfrm>
              <a:off x="1332000" y="836640"/>
              <a:ext cx="3234600" cy="26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6" name="图片 5123" descr="68b1OOOPIC57[1]"/>
            <p:cNvPicPr/>
            <p:nvPr/>
          </p:nvPicPr>
          <p:blipFill>
            <a:blip r:embed="rId2"/>
            <a:stretch/>
          </p:blipFill>
          <p:spPr>
            <a:xfrm rot="900000">
              <a:off x="6473520" y="1291680"/>
              <a:ext cx="1050840" cy="125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7" name="图片 5124" descr="68b1OOOPIC57[1]"/>
            <p:cNvPicPr/>
            <p:nvPr/>
          </p:nvPicPr>
          <p:blipFill>
            <a:blip r:embed="rId3"/>
            <a:stretch/>
          </p:blipFill>
          <p:spPr>
            <a:xfrm rot="21300000">
              <a:off x="5781600" y="945360"/>
              <a:ext cx="1067760" cy="128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8" name="矩形 5125"/>
          <p:cNvSpPr/>
          <p:nvPr/>
        </p:nvSpPr>
        <p:spPr>
          <a:xfrm>
            <a:off x="3841920" y="3008160"/>
            <a:ext cx="137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5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-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 2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矩形 5126"/>
          <p:cNvSpPr/>
          <p:nvPr/>
        </p:nvSpPr>
        <p:spPr>
          <a:xfrm>
            <a:off x="5198400" y="30081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5127" descr="P-024-3"/>
          <p:cNvPicPr/>
          <p:nvPr/>
        </p:nvPicPr>
        <p:blipFill>
          <a:blip r:embed="rId4"/>
          <a:stretch/>
        </p:blipFill>
        <p:spPr>
          <a:xfrm>
            <a:off x="6129360" y="4400640"/>
            <a:ext cx="1473120" cy="1822320"/>
          </a:xfrm>
          <a:prstGeom prst="rect">
            <a:avLst/>
          </a:prstGeom>
          <a:ln w="0">
            <a:noFill/>
          </a:ln>
        </p:spPr>
      </p:pic>
      <p:grpSp>
        <p:nvGrpSpPr>
          <p:cNvPr id="1021" name="组合 5128"/>
          <p:cNvGrpSpPr/>
          <p:nvPr/>
        </p:nvGrpSpPr>
        <p:grpSpPr>
          <a:xfrm>
            <a:off x="7461360" y="3395520"/>
            <a:ext cx="1568520" cy="1809720"/>
            <a:chOff x="7461360" y="3395520"/>
            <a:chExt cx="1568520" cy="1809720"/>
          </a:xfrm>
        </p:grpSpPr>
        <p:sp>
          <p:nvSpPr>
            <p:cNvPr id="1022" name="圆角矩形 5129"/>
            <p:cNvSpPr/>
            <p:nvPr/>
          </p:nvSpPr>
          <p:spPr>
            <a:xfrm>
              <a:off x="7461360" y="3395520"/>
              <a:ext cx="1568520" cy="1400040"/>
            </a:xfrm>
            <a:prstGeom prst="roundRect">
              <a:avLst>
                <a:gd name="adj" fmla="val 12019"/>
              </a:avLst>
            </a:prstGeom>
            <a:solidFill>
              <a:srgbClr val="d9f3ff"/>
            </a:solidFill>
            <a:ln w="19080">
              <a:solidFill>
                <a:srgbClr val="0472e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文本框 5130"/>
            <p:cNvSpPr/>
            <p:nvPr/>
          </p:nvSpPr>
          <p:spPr>
            <a:xfrm>
              <a:off x="7726320" y="4171680"/>
              <a:ext cx="4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直接连接符 5131"/>
            <p:cNvSpPr/>
            <p:nvPr/>
          </p:nvSpPr>
          <p:spPr>
            <a:xfrm flipH="1">
              <a:off x="7954560" y="3873240"/>
              <a:ext cx="249480" cy="34776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直接连接符 5132"/>
            <p:cNvSpPr/>
            <p:nvPr/>
          </p:nvSpPr>
          <p:spPr>
            <a:xfrm>
              <a:off x="8204400" y="3873240"/>
              <a:ext cx="287280" cy="36036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矩形 5133"/>
            <p:cNvSpPr/>
            <p:nvPr/>
          </p:nvSpPr>
          <p:spPr>
            <a:xfrm>
              <a:off x="8310600" y="4259160"/>
              <a:ext cx="436680" cy="43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椭圆 5134"/>
            <p:cNvSpPr/>
            <p:nvPr/>
          </p:nvSpPr>
          <p:spPr>
            <a:xfrm>
              <a:off x="7953480" y="4873320"/>
              <a:ext cx="360360" cy="177840"/>
            </a:xfrm>
            <a:prstGeom prst="ellipse">
              <a:avLst/>
            </a:prstGeom>
            <a:solidFill>
              <a:srgbClr val="d9f3ff"/>
            </a:solidFill>
            <a:ln w="19080">
              <a:solidFill>
                <a:srgbClr val="0472e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椭圆 5135"/>
            <p:cNvSpPr/>
            <p:nvPr/>
          </p:nvSpPr>
          <p:spPr>
            <a:xfrm>
              <a:off x="7848720" y="5118120"/>
              <a:ext cx="176040" cy="87120"/>
            </a:xfrm>
            <a:prstGeom prst="ellipse">
              <a:avLst/>
            </a:prstGeom>
            <a:solidFill>
              <a:srgbClr val="d9f3ff"/>
            </a:solidFill>
            <a:ln w="19080">
              <a:solidFill>
                <a:srgbClr val="0472e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矩形 5136"/>
            <p:cNvSpPr/>
            <p:nvPr/>
          </p:nvSpPr>
          <p:spPr>
            <a:xfrm>
              <a:off x="8026560" y="3395520"/>
              <a:ext cx="544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0" name="矩形 5137"/>
          <p:cNvSpPr/>
          <p:nvPr/>
        </p:nvSpPr>
        <p:spPr>
          <a:xfrm>
            <a:off x="8348400" y="42181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组合 5138"/>
          <p:cNvGrpSpPr/>
          <p:nvPr/>
        </p:nvGrpSpPr>
        <p:grpSpPr>
          <a:xfrm>
            <a:off x="2048040" y="3686040"/>
            <a:ext cx="2518920" cy="1152720"/>
            <a:chOff x="2048040" y="3686040"/>
            <a:chExt cx="2518920" cy="1152720"/>
          </a:xfrm>
        </p:grpSpPr>
        <p:sp>
          <p:nvSpPr>
            <p:cNvPr id="1032" name="圆角矩形标注 5139"/>
            <p:cNvSpPr/>
            <p:nvPr/>
          </p:nvSpPr>
          <p:spPr>
            <a:xfrm>
              <a:off x="2048040" y="3686040"/>
              <a:ext cx="2375280" cy="115272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矩形 5140"/>
            <p:cNvSpPr/>
            <p:nvPr/>
          </p:nvSpPr>
          <p:spPr>
            <a:xfrm>
              <a:off x="2120760" y="3758400"/>
              <a:ext cx="2446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从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倒着数，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、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，还剩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只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34" name="内容占位符 5141" descr="图片1将很快回来"/>
          <p:cNvPicPr/>
          <p:nvPr/>
        </p:nvPicPr>
        <p:blipFill>
          <a:blip r:embed="rId5"/>
          <a:stretch/>
        </p:blipFill>
        <p:spPr>
          <a:xfrm>
            <a:off x="534960" y="4113360"/>
            <a:ext cx="1584360" cy="2109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内容占位符 6145" descr="332094"/>
          <p:cNvPicPr/>
          <p:nvPr/>
        </p:nvPicPr>
        <p:blipFill>
          <a:blip r:embed="rId1"/>
          <a:stretch/>
        </p:blipFill>
        <p:spPr>
          <a:xfrm>
            <a:off x="5076720" y="1917720"/>
            <a:ext cx="374508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036" name="组合 6147"/>
          <p:cNvGrpSpPr/>
          <p:nvPr/>
        </p:nvGrpSpPr>
        <p:grpSpPr>
          <a:xfrm>
            <a:off x="1547640" y="3718080"/>
            <a:ext cx="1698480" cy="648360"/>
            <a:chOff x="1547640" y="3718080"/>
            <a:chExt cx="1698480" cy="648360"/>
          </a:xfrm>
        </p:grpSpPr>
        <p:sp>
          <p:nvSpPr>
            <p:cNvPr id="1037" name="矩形 6148"/>
            <p:cNvSpPr/>
            <p:nvPr/>
          </p:nvSpPr>
          <p:spPr>
            <a:xfrm>
              <a:off x="2814480" y="387540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文本框 6149"/>
            <p:cNvSpPr/>
            <p:nvPr/>
          </p:nvSpPr>
          <p:spPr>
            <a:xfrm>
              <a:off x="1547640" y="371808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5 </a:t>
              </a:r>
              <a:r>
                <a:rPr b="1" lang="en-US" sz="2800" spc="-1" strike="noStrike">
                  <a:solidFill>
                    <a:srgbClr val="0066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1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文本框 6150"/>
          <p:cNvSpPr/>
          <p:nvPr/>
        </p:nvSpPr>
        <p:spPr>
          <a:xfrm>
            <a:off x="2700360" y="371808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组合 6151"/>
          <p:cNvGrpSpPr/>
          <p:nvPr/>
        </p:nvGrpSpPr>
        <p:grpSpPr>
          <a:xfrm>
            <a:off x="6157800" y="3740040"/>
            <a:ext cx="1698480" cy="648360"/>
            <a:chOff x="6157800" y="3740040"/>
            <a:chExt cx="1698480" cy="648360"/>
          </a:xfrm>
        </p:grpSpPr>
        <p:sp>
          <p:nvSpPr>
            <p:cNvPr id="1041" name="矩形 6152"/>
            <p:cNvSpPr/>
            <p:nvPr/>
          </p:nvSpPr>
          <p:spPr>
            <a:xfrm>
              <a:off x="7424640" y="389736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文本框 6153"/>
            <p:cNvSpPr/>
            <p:nvPr/>
          </p:nvSpPr>
          <p:spPr>
            <a:xfrm>
              <a:off x="6157800" y="374004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5 </a:t>
              </a:r>
              <a:r>
                <a:rPr b="1" lang="en-US" sz="2800" spc="-1" strike="noStrike">
                  <a:solidFill>
                    <a:srgbClr val="0066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6600"/>
                  </a:solidFill>
                  <a:latin typeface="Times New Roman"/>
                </a:rPr>
                <a:t> 4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3" name="文本框 6154"/>
          <p:cNvSpPr/>
          <p:nvPr/>
        </p:nvSpPr>
        <p:spPr>
          <a:xfrm>
            <a:off x="7310520" y="374004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内容占位符 6155" descr="3320946_151054602311_2[1]"/>
          <p:cNvPicPr/>
          <p:nvPr/>
        </p:nvPicPr>
        <p:blipFill>
          <a:blip r:embed="rId2"/>
          <a:stretch/>
        </p:blipFill>
        <p:spPr>
          <a:xfrm>
            <a:off x="468360" y="1989000"/>
            <a:ext cx="3672000" cy="1379520"/>
          </a:xfrm>
          <a:prstGeom prst="rect">
            <a:avLst/>
          </a:prstGeom>
          <a:ln w="0">
            <a:noFill/>
          </a:ln>
        </p:spPr>
      </p:pic>
      <p:sp>
        <p:nvSpPr>
          <p:cNvPr id="1045" name="文本框 6158"/>
          <p:cNvSpPr/>
          <p:nvPr/>
        </p:nvSpPr>
        <p:spPr>
          <a:xfrm>
            <a:off x="684360" y="1484280"/>
            <a:ext cx="718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6" name="组合 2"/>
          <p:cNvGrpSpPr/>
          <p:nvPr/>
        </p:nvGrpSpPr>
        <p:grpSpPr>
          <a:xfrm>
            <a:off x="0" y="155520"/>
            <a:ext cx="3244680" cy="527040"/>
            <a:chOff x="0" y="155520"/>
            <a:chExt cx="3244680" cy="527040"/>
          </a:xfrm>
        </p:grpSpPr>
        <p:pic>
          <p:nvPicPr>
            <p:cNvPr id="1047" name="圆角矩形 5" descr=""/>
            <p:cNvPicPr/>
            <p:nvPr/>
          </p:nvPicPr>
          <p:blipFill>
            <a:blip r:embed="rId3"/>
            <a:stretch/>
          </p:blipFill>
          <p:spPr>
            <a:xfrm>
              <a:off x="150480" y="155520"/>
              <a:ext cx="3094200" cy="52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8" name="组合 4"/>
            <p:cNvGrpSpPr/>
            <p:nvPr/>
          </p:nvGrpSpPr>
          <p:grpSpPr>
            <a:xfrm>
              <a:off x="0" y="250560"/>
              <a:ext cx="429840" cy="274680"/>
              <a:chOff x="0" y="250560"/>
              <a:chExt cx="429840" cy="274680"/>
            </a:xfrm>
          </p:grpSpPr>
          <p:sp>
            <p:nvSpPr>
              <p:cNvPr id="1049" name="椭圆 11"/>
              <p:cNvSpPr/>
              <p:nvPr/>
            </p:nvSpPr>
            <p:spPr>
              <a:xfrm rot="16200000">
                <a:off x="243360" y="41544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0" name="椭圆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218160" y="3787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1" name="椭圆 29"/>
              <p:cNvSpPr/>
              <p:nvPr/>
            </p:nvSpPr>
            <p:spPr>
              <a:xfrm rot="16200000">
                <a:off x="243360" y="288360"/>
                <a:ext cx="99360" cy="12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2" name="椭圆 30" descr=""/>
              <p:cNvPicPr/>
              <p:nvPr/>
            </p:nvPicPr>
            <p:blipFill>
              <a:blip r:embed="rId5"/>
              <a:stretch/>
            </p:blipFill>
            <p:spPr>
              <a:xfrm>
                <a:off x="218160" y="265320"/>
                <a:ext cx="211680" cy="114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3" name="圆角矩形 31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39492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4" name="圆角矩形 32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36648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5" name="圆角矩形 33" descr=""/>
              <p:cNvPicPr/>
              <p:nvPr/>
            </p:nvPicPr>
            <p:blipFill>
              <a:blip r:embed="rId8"/>
              <a:stretch/>
            </p:blipFill>
            <p:spPr>
              <a:xfrm>
                <a:off x="0" y="27864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6" name="圆角矩形 34" descr=""/>
              <p:cNvPicPr/>
              <p:nvPr/>
            </p:nvPicPr>
            <p:blipFill>
              <a:blip r:embed="rId9"/>
              <a:stretch/>
            </p:blipFill>
            <p:spPr>
              <a:xfrm>
                <a:off x="0" y="250560"/>
                <a:ext cx="356400" cy="100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7" name="Rectangle 64"/>
          <p:cNvSpPr/>
          <p:nvPr/>
        </p:nvSpPr>
        <p:spPr>
          <a:xfrm>
            <a:off x="682560" y="117360"/>
            <a:ext cx="19731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ffffff"/>
                </a:solidFill>
                <a:latin typeface="宋体"/>
                <a:ea typeface="宋体"/>
              </a:rPr>
              <a:t>做一做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图片 7169" descr="橘子"/>
          <p:cNvPicPr/>
          <p:nvPr/>
        </p:nvPicPr>
        <p:blipFill>
          <a:blip r:embed="rId1"/>
          <a:stretch/>
        </p:blipFill>
        <p:spPr>
          <a:xfrm>
            <a:off x="684360" y="2205000"/>
            <a:ext cx="610920" cy="64296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7170" descr="橘子"/>
          <p:cNvPicPr/>
          <p:nvPr/>
        </p:nvPicPr>
        <p:blipFill>
          <a:blip r:embed="rId2"/>
          <a:stretch/>
        </p:blipFill>
        <p:spPr>
          <a:xfrm>
            <a:off x="1333440" y="2205000"/>
            <a:ext cx="611280" cy="6429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7171" descr="橘子"/>
          <p:cNvPicPr/>
          <p:nvPr/>
        </p:nvPicPr>
        <p:blipFill>
          <a:blip r:embed="rId3"/>
          <a:stretch/>
        </p:blipFill>
        <p:spPr>
          <a:xfrm>
            <a:off x="1981080" y="2205000"/>
            <a:ext cx="611280" cy="64296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7172" descr="橘子"/>
          <p:cNvPicPr/>
          <p:nvPr/>
        </p:nvPicPr>
        <p:blipFill>
          <a:blip r:embed="rId4"/>
          <a:stretch/>
        </p:blipFill>
        <p:spPr>
          <a:xfrm>
            <a:off x="2630520" y="2205000"/>
            <a:ext cx="611280" cy="64296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7173" descr="橘子"/>
          <p:cNvPicPr/>
          <p:nvPr/>
        </p:nvPicPr>
        <p:blipFill>
          <a:blip r:embed="rId5"/>
          <a:stretch/>
        </p:blipFill>
        <p:spPr>
          <a:xfrm>
            <a:off x="5508720" y="2205000"/>
            <a:ext cx="610920" cy="6429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7174" descr="橘子"/>
          <p:cNvPicPr/>
          <p:nvPr/>
        </p:nvPicPr>
        <p:blipFill>
          <a:blip r:embed="rId6"/>
          <a:stretch/>
        </p:blipFill>
        <p:spPr>
          <a:xfrm>
            <a:off x="6299280" y="2205000"/>
            <a:ext cx="611280" cy="64296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7175" descr="橘子"/>
          <p:cNvPicPr/>
          <p:nvPr/>
        </p:nvPicPr>
        <p:blipFill>
          <a:blip r:embed="rId7"/>
          <a:stretch/>
        </p:blipFill>
        <p:spPr>
          <a:xfrm>
            <a:off x="7091280" y="2205000"/>
            <a:ext cx="611280" cy="642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176" descr="橘子"/>
          <p:cNvPicPr/>
          <p:nvPr/>
        </p:nvPicPr>
        <p:blipFill>
          <a:blip r:embed="rId8"/>
          <a:stretch/>
        </p:blipFill>
        <p:spPr>
          <a:xfrm>
            <a:off x="7812000" y="2205000"/>
            <a:ext cx="611280" cy="642960"/>
          </a:xfrm>
          <a:prstGeom prst="rect">
            <a:avLst/>
          </a:prstGeom>
          <a:ln w="0">
            <a:noFill/>
          </a:ln>
        </p:spPr>
      </p:pic>
      <p:sp>
        <p:nvSpPr>
          <p:cNvPr id="1066" name="直接连接符 7177"/>
          <p:cNvSpPr/>
          <p:nvPr/>
        </p:nvSpPr>
        <p:spPr>
          <a:xfrm>
            <a:off x="2771640" y="2205000"/>
            <a:ext cx="432000" cy="792360"/>
          </a:xfrm>
          <a:prstGeom prst="line">
            <a:avLst/>
          </a:prstGeom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圆角矩形 7178"/>
          <p:cNvSpPr/>
          <p:nvPr/>
        </p:nvSpPr>
        <p:spPr>
          <a:xfrm>
            <a:off x="6229440" y="1989000"/>
            <a:ext cx="230328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8" name="组合 7179"/>
          <p:cNvGrpSpPr/>
          <p:nvPr/>
        </p:nvGrpSpPr>
        <p:grpSpPr>
          <a:xfrm>
            <a:off x="1116000" y="3286080"/>
            <a:ext cx="1698480" cy="648360"/>
            <a:chOff x="1116000" y="3286080"/>
            <a:chExt cx="1698480" cy="648360"/>
          </a:xfrm>
        </p:grpSpPr>
        <p:sp>
          <p:nvSpPr>
            <p:cNvPr id="1069" name="矩形 7180"/>
            <p:cNvSpPr/>
            <p:nvPr/>
          </p:nvSpPr>
          <p:spPr>
            <a:xfrm>
              <a:off x="2382840" y="344340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文本框 7181"/>
            <p:cNvSpPr/>
            <p:nvPr/>
          </p:nvSpPr>
          <p:spPr>
            <a:xfrm>
              <a:off x="1116000" y="328608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4 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 1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1" name="文本框 7182"/>
          <p:cNvSpPr/>
          <p:nvPr/>
        </p:nvSpPr>
        <p:spPr>
          <a:xfrm>
            <a:off x="2268360" y="328608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7183"/>
          <p:cNvSpPr/>
          <p:nvPr/>
        </p:nvSpPr>
        <p:spPr>
          <a:xfrm>
            <a:off x="6610320" y="3443400"/>
            <a:ext cx="432000" cy="43164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7184"/>
          <p:cNvSpPr/>
          <p:nvPr/>
        </p:nvSpPr>
        <p:spPr>
          <a:xfrm>
            <a:off x="5919840" y="3286080"/>
            <a:ext cx="1550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7185"/>
          <p:cNvSpPr/>
          <p:nvPr/>
        </p:nvSpPr>
        <p:spPr>
          <a:xfrm>
            <a:off x="6496200" y="328608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矩形 7186"/>
          <p:cNvSpPr/>
          <p:nvPr/>
        </p:nvSpPr>
        <p:spPr>
          <a:xfrm>
            <a:off x="7423200" y="3443400"/>
            <a:ext cx="431640" cy="431640"/>
          </a:xfrm>
          <a:prstGeom prst="rect">
            <a:avLst/>
          </a:prstGeom>
          <a:noFill/>
          <a:ln w="1908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7187"/>
          <p:cNvSpPr/>
          <p:nvPr/>
        </p:nvSpPr>
        <p:spPr>
          <a:xfrm>
            <a:off x="7308720" y="328608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7188"/>
          <p:cNvSpPr/>
          <p:nvPr/>
        </p:nvSpPr>
        <p:spPr>
          <a:xfrm>
            <a:off x="826920" y="981000"/>
            <a:ext cx="439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划一划，填一填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椭圆 8193"/>
          <p:cNvSpPr/>
          <p:nvPr/>
        </p:nvSpPr>
        <p:spPr>
          <a:xfrm>
            <a:off x="900000" y="1990800"/>
            <a:ext cx="50508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280" y="839520"/>
            <a:ext cx="381636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涂一涂，填一填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椭圆 8195"/>
          <p:cNvSpPr/>
          <p:nvPr/>
        </p:nvSpPr>
        <p:spPr>
          <a:xfrm>
            <a:off x="1692360" y="19908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椭圆 8196"/>
          <p:cNvSpPr/>
          <p:nvPr/>
        </p:nvSpPr>
        <p:spPr>
          <a:xfrm>
            <a:off x="2484360" y="1990800"/>
            <a:ext cx="50508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椭圆 8197"/>
          <p:cNvSpPr/>
          <p:nvPr/>
        </p:nvSpPr>
        <p:spPr>
          <a:xfrm>
            <a:off x="7378560" y="1990800"/>
            <a:ext cx="50508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椭圆 8198"/>
          <p:cNvSpPr/>
          <p:nvPr/>
        </p:nvSpPr>
        <p:spPr>
          <a:xfrm>
            <a:off x="4861080" y="19908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椭圆 8199"/>
          <p:cNvSpPr/>
          <p:nvPr/>
        </p:nvSpPr>
        <p:spPr>
          <a:xfrm>
            <a:off x="5651640" y="19908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椭圆 8200"/>
          <p:cNvSpPr/>
          <p:nvPr/>
        </p:nvSpPr>
        <p:spPr>
          <a:xfrm>
            <a:off x="6516720" y="1990800"/>
            <a:ext cx="504720" cy="50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椭圆 8201"/>
          <p:cNvSpPr/>
          <p:nvPr/>
        </p:nvSpPr>
        <p:spPr>
          <a:xfrm>
            <a:off x="4645080" y="4151160"/>
            <a:ext cx="50472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椭圆 8202"/>
          <p:cNvSpPr/>
          <p:nvPr/>
        </p:nvSpPr>
        <p:spPr>
          <a:xfrm>
            <a:off x="2268360" y="4151160"/>
            <a:ext cx="50508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椭圆 8203"/>
          <p:cNvSpPr/>
          <p:nvPr/>
        </p:nvSpPr>
        <p:spPr>
          <a:xfrm>
            <a:off x="3060720" y="4151160"/>
            <a:ext cx="50472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椭圆 8204"/>
          <p:cNvSpPr/>
          <p:nvPr/>
        </p:nvSpPr>
        <p:spPr>
          <a:xfrm>
            <a:off x="3852720" y="4151160"/>
            <a:ext cx="50508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椭圆 8205"/>
          <p:cNvSpPr/>
          <p:nvPr/>
        </p:nvSpPr>
        <p:spPr>
          <a:xfrm>
            <a:off x="5435640" y="4151160"/>
            <a:ext cx="504720" cy="50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组合 8206"/>
          <p:cNvGrpSpPr/>
          <p:nvPr/>
        </p:nvGrpSpPr>
        <p:grpSpPr>
          <a:xfrm>
            <a:off x="1116000" y="2855880"/>
            <a:ext cx="1698480" cy="648360"/>
            <a:chOff x="1116000" y="2855880"/>
            <a:chExt cx="1698480" cy="648360"/>
          </a:xfrm>
        </p:grpSpPr>
        <p:sp>
          <p:nvSpPr>
            <p:cNvPr id="1092" name="矩形 8207"/>
            <p:cNvSpPr/>
            <p:nvPr/>
          </p:nvSpPr>
          <p:spPr>
            <a:xfrm>
              <a:off x="2382840" y="301320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文本框 8208"/>
            <p:cNvSpPr/>
            <p:nvPr/>
          </p:nvSpPr>
          <p:spPr>
            <a:xfrm>
              <a:off x="1116000" y="285588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1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4" name="文本框 8209"/>
          <p:cNvSpPr/>
          <p:nvPr/>
        </p:nvSpPr>
        <p:spPr>
          <a:xfrm>
            <a:off x="2268360" y="2855880"/>
            <a:ext cx="64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椭圆 8210"/>
          <p:cNvSpPr/>
          <p:nvPr/>
        </p:nvSpPr>
        <p:spPr>
          <a:xfrm>
            <a:off x="4861080" y="1990800"/>
            <a:ext cx="504720" cy="504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椭圆 8211"/>
          <p:cNvSpPr/>
          <p:nvPr/>
        </p:nvSpPr>
        <p:spPr>
          <a:xfrm>
            <a:off x="2268360" y="4151160"/>
            <a:ext cx="5050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椭圆 8212"/>
          <p:cNvSpPr/>
          <p:nvPr/>
        </p:nvSpPr>
        <p:spPr>
          <a:xfrm>
            <a:off x="3060720" y="4151160"/>
            <a:ext cx="50472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组合 8213"/>
          <p:cNvGrpSpPr/>
          <p:nvPr/>
        </p:nvGrpSpPr>
        <p:grpSpPr>
          <a:xfrm>
            <a:off x="5508720" y="2855880"/>
            <a:ext cx="1698480" cy="648360"/>
            <a:chOff x="5508720" y="2855880"/>
            <a:chExt cx="1698480" cy="648360"/>
          </a:xfrm>
        </p:grpSpPr>
        <p:sp>
          <p:nvSpPr>
            <p:cNvPr id="1099" name="矩形 8214"/>
            <p:cNvSpPr/>
            <p:nvPr/>
          </p:nvSpPr>
          <p:spPr>
            <a:xfrm>
              <a:off x="6775560" y="301320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文本框 8215"/>
            <p:cNvSpPr/>
            <p:nvPr/>
          </p:nvSpPr>
          <p:spPr>
            <a:xfrm>
              <a:off x="5508720" y="285588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1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1" name="文本框 8216"/>
          <p:cNvSpPr/>
          <p:nvPr/>
        </p:nvSpPr>
        <p:spPr>
          <a:xfrm>
            <a:off x="6661080" y="285588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2" name="组合 8217"/>
          <p:cNvGrpSpPr/>
          <p:nvPr/>
        </p:nvGrpSpPr>
        <p:grpSpPr>
          <a:xfrm>
            <a:off x="3205080" y="5014800"/>
            <a:ext cx="1698480" cy="648360"/>
            <a:chOff x="3205080" y="5014800"/>
            <a:chExt cx="1698480" cy="648360"/>
          </a:xfrm>
        </p:grpSpPr>
        <p:sp>
          <p:nvSpPr>
            <p:cNvPr id="1103" name="矩形 8218"/>
            <p:cNvSpPr/>
            <p:nvPr/>
          </p:nvSpPr>
          <p:spPr>
            <a:xfrm>
              <a:off x="4471920" y="5172120"/>
              <a:ext cx="431640" cy="431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文本框 8219"/>
            <p:cNvSpPr/>
            <p:nvPr/>
          </p:nvSpPr>
          <p:spPr>
            <a:xfrm>
              <a:off x="3205080" y="5014800"/>
              <a:ext cx="1368360" cy="64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 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2 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5" name="文本框 8220"/>
          <p:cNvSpPr/>
          <p:nvPr/>
        </p:nvSpPr>
        <p:spPr>
          <a:xfrm>
            <a:off x="4357800" y="5014800"/>
            <a:ext cx="647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dc:language>en-US</dc:language>
  <cp:lastModifiedBy>万润仪器贸易公司</cp:lastModifiedBy>
  <dcterms:modified xsi:type="dcterms:W3CDTF">2020-08-18T09:45:05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